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13798"/>
        <c:axId val="24970491"/>
      </c:barChart>
      <c:catAx>
        <c:axId val="98213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70491"/>
        <c:crosses val="autoZero"/>
        <c:auto val="1"/>
        <c:lblAlgn val="ctr"/>
        <c:lblOffset val="100"/>
        <c:noMultiLvlLbl val="0"/>
      </c:catAx>
      <c:valAx>
        <c:axId val="24970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13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740-15B2-4F3D-BBAE-F46AA8A5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B0E-5C70-4BD0-A548-64D7ECAA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6E2-96E0-4B37-A691-EC5A43F4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3E4-0D55-49CE-ABEA-53103C17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92E-5FBA-4633-9B5E-1CB0C094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01E-F032-4FC2-8CAF-7703A61C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C16-CFD8-4AB6-B725-DA2C5C33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DBB-F81E-408C-807B-443A1065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ED2-563D-4960-BCEB-CB226C21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F44-5D7E-4E53-A68A-EBCB5337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E74-6DFA-46FE-ABA0-2B123816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32C-29DE-4C0B-A236-0A119BF6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2D80D-0A93-4A71-9A9C-94C96B8602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