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930087"/>
        <c:axId val="2995973"/>
      </c:barChart>
      <c:catAx>
        <c:axId val="40930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5973"/>
        <c:crosses val="autoZero"/>
        <c:auto val="1"/>
        <c:lblAlgn val="ctr"/>
        <c:lblOffset val="100"/>
        <c:noMultiLvlLbl val="0"/>
      </c:catAx>
      <c:valAx>
        <c:axId val="2995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30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EF05-0F6F-403E-AADE-1E187C3D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394D-3C05-477E-9594-09CA8B3B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8D76-102F-4293-97A3-27DD9655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05E-5C52-40B9-A002-6949CF0D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66B-D276-44C2-9985-2207A967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BFFF-5306-4AF4-9BF7-E7E5FD57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372A-05C0-4770-A077-C8B2E593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E0A-1BE6-43A5-A887-D9BD93E4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A30-1E10-43B3-ACF1-11B9B514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F276-A5A8-4F18-B839-0A26467C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20E3-59E3-4C6F-A0AC-AE255813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0FAD-E04E-4CB0-BED9-11BCB13C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19F19-4D17-4192-9258-5DE2358EBC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