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35116"/>
        <c:axId val="35658210"/>
      </c:barChart>
      <c:catAx>
        <c:axId val="99635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58210"/>
        <c:crosses val="autoZero"/>
        <c:auto val="1"/>
        <c:lblAlgn val="ctr"/>
        <c:lblOffset val="100"/>
        <c:noMultiLvlLbl val="0"/>
      </c:catAx>
      <c:valAx>
        <c:axId val="35658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5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981-1285-486A-8E60-AFE1EEBE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0BF-6523-4EDA-8E89-47C0885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923-600E-4070-AC19-574BD0C7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B6E-8233-4696-9A53-2E8E6BDA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1A5-F011-4CB8-94EB-A12E302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B41-7211-4E0C-8069-C492B60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2FF-F0D7-45BD-9E70-3EC2044C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48D-291B-4B79-A65F-7365068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06D-3C1A-4CE9-91CA-F18D929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F19-B755-448A-906B-2E82023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3E6-72B1-4023-92E4-20ED5232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82-5224-4ACF-8343-5092590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6487A-3296-4B4B-872C-B479636BC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